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343-28C0-43F5-A672-58AAE4B1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E5D-068E-42F6-AE57-D5C63855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253-63EA-4A53-B692-5D807B32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F4B-96FB-4144-9D93-D9527917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2B5-D407-473B-929B-FBFDC020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ECD-CA92-4B89-A759-59055028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6C6-5D58-4F91-AE96-AE5E3DE2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F8C-62EF-420E-97D2-59E5C792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E08-1804-4DDD-A31B-0E95EDD8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53C-8AA8-4860-B4ED-36A8BDD8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A8F-74F3-483F-BD6C-193E735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95F-B20D-4261-AA0B-68C22FAF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CAAC-B00B-442D-B61F-989F5CA11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the first thing the group did to complete this ta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perfect order, and how did you decide on this perfect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teps did you take to place the cards in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81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to Pull in Immediat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atawba.k12.nc.us/pages/techtrac/techtrac10/brenda/dbdef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World in Or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use databases to organize our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2467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ethods do you use to stay organized at school and at h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52640" cy="1733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25909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ing activity…have kids sort themselves by birth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7617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xperience do you have with databa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52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know about databa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400800" cy="3914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52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want to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52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3:54:57Z</dcterms:created>
  <dc:creator>Director Of Technology</dc:creator>
  <dc:description/>
  <dc:language>en-US</dc:language>
  <cp:lastModifiedBy>Director Of Technology</cp:lastModifiedBy>
  <dcterms:modified xsi:type="dcterms:W3CDTF">2008-01-10T16:22:56Z</dcterms:modified>
  <cp:revision>3</cp:revision>
  <dc:subject/>
  <dc:title>Is the World in Order?</dc:title>
</cp:coreProperties>
</file>